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58A-86A2-4C05-A41A-2A26B7686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C38-C54E-463A-936F-08AD9F2A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F627-5B49-40FC-9AE3-9B86BD30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FE4-61B4-4F3D-B125-BA6AAA12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C39-E046-4B61-9879-E6C01B06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3F4-3427-42B5-BFF4-63D723FB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0195-98F9-4905-872E-EE98001F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3438-82E9-45DD-8B33-82EFD6D8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827B-5E98-4F77-8C50-78BF77B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58D1-B5D3-44FA-A9FA-88DC437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FD04-7ED2-4940-9DA8-A1BBDAE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7F3-C1CA-4D3C-B0DD-67AE2B03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DF9-4E31-4BCF-8B21-9572BC461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631C-FAC1-4951-A96A-4820D802F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imes New Roman"/>
              </a:rPr>
              <a:t>ASOCIACIÓN ARGENTINA DE ESTUDIOS FISC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ICLO INTRODUCTORIO A LA ESPECIALIDAD TRIBU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Primer semestre 20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24/04/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MPUESTO AL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Times New Roman"/>
              </a:rPr>
              <a:t>Pablo Andres Robledo y Angel Pere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380880"/>
            <a:ext cx="8305920" cy="586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F8C7-146E-467D-9A29-C149A76DB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1116000" y="692280"/>
            <a:ext cx="8207280" cy="72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jetos del exteri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ortador, prestatario, responsable sustit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Personas huma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enores de edad / incap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usante///Herederos (Neutralid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pons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dres, tutores y cu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ederos, administr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deuda propia y/o aje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D995-D2E3-4FAD-B648-7E442A19B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66024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425520" y="1360440"/>
            <a:ext cx="19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4"/>
          <p:cNvSpPr/>
          <p:nvPr/>
        </p:nvSpPr>
        <p:spPr>
          <a:xfrm>
            <a:off x="2824200" y="1593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3267360" y="128592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8"/>
          <p:cNvSpPr/>
          <p:nvPr/>
        </p:nvSpPr>
        <p:spPr>
          <a:xfrm>
            <a:off x="2824200" y="159372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89720" y="2158920"/>
            <a:ext cx="1972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Crédito Fisc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228600" y="228600"/>
            <a:ext cx="861048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1360" y="27000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1 Rectángulo"/>
          <p:cNvSpPr/>
          <p:nvPr/>
        </p:nvSpPr>
        <p:spPr>
          <a:xfrm>
            <a:off x="4692600" y="128124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venta a tercer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(Débito Fiscal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1 Rectángulo"/>
          <p:cNvSpPr/>
          <p:nvPr/>
        </p:nvSpPr>
        <p:spPr>
          <a:xfrm>
            <a:off x="736560" y="2805120"/>
            <a:ext cx="353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mpras / - por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2 Rectángulo"/>
          <p:cNvSpPr/>
          <p:nvPr/>
        </p:nvSpPr>
        <p:spPr>
          <a:xfrm>
            <a:off x="746280" y="334152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 nombre prop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4"/>
          <p:cNvSpPr/>
          <p:nvPr/>
        </p:nvSpPr>
        <p:spPr>
          <a:xfrm>
            <a:off x="2976480" y="3635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8"/>
          <p:cNvSpPr/>
          <p:nvPr/>
        </p:nvSpPr>
        <p:spPr>
          <a:xfrm>
            <a:off x="2995560" y="3635280"/>
            <a:ext cx="1457280" cy="8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1 Rectángulo"/>
          <p:cNvSpPr/>
          <p:nvPr/>
        </p:nvSpPr>
        <p:spPr>
          <a:xfrm>
            <a:off x="4511520" y="340344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Liquidación al comit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1 Rectángulo"/>
          <p:cNvSpPr/>
          <p:nvPr/>
        </p:nvSpPr>
        <p:spPr>
          <a:xfrm>
            <a:off x="4576680" y="41148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del vendedor (Proveed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262680" y="332748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 rot="1483800">
            <a:off x="3363120" y="4052880"/>
            <a:ext cx="61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ci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21 Rectángulo"/>
          <p:cNvSpPr/>
          <p:nvPr/>
        </p:nvSpPr>
        <p:spPr>
          <a:xfrm>
            <a:off x="704520" y="4659480"/>
            <a:ext cx="47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entas/ Compras – nombre y cuenta  de terceros-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22 Rectángulo"/>
          <p:cNvSpPr/>
          <p:nvPr/>
        </p:nvSpPr>
        <p:spPr>
          <a:xfrm>
            <a:off x="753480" y="5157720"/>
            <a:ext cx="25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 nombre de terc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4"/>
          <p:cNvSpPr/>
          <p:nvPr/>
        </p:nvSpPr>
        <p:spPr>
          <a:xfrm>
            <a:off x="3348000" y="53420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648600" y="5030640"/>
            <a:ext cx="57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1 Rectángulo"/>
          <p:cNvSpPr/>
          <p:nvPr/>
        </p:nvSpPr>
        <p:spPr>
          <a:xfrm>
            <a:off x="4735440" y="5176800"/>
            <a:ext cx="304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Factura por comisión (al mandan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C618-9934-48E5-B7FD-D12F38D6E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212120" y="2174760"/>
            <a:ext cx="4314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asoc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grupamientos de profes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tratos en particip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tr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304920" y="304920"/>
            <a:ext cx="861048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72E5-6A79-4B1B-B323-41CB02FBD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761760" y="35053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TE    em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74560" y="289548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tura a tercer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294360" y="3962520"/>
            <a:ext cx="46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 a sus integr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964800" y="5299200"/>
            <a:ext cx="57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eficiente acumulación de créditos fisc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2666880" y="3200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26668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9"/>
          <p:cNvSpPr/>
          <p:nvPr/>
        </p:nvSpPr>
        <p:spPr>
          <a:xfrm>
            <a:off x="2666880" y="3200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304920" y="304920"/>
            <a:ext cx="853416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3F03-681A-4F78-B271-4EB3BA065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977040" y="32418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4"/>
          <p:cNvSpPr/>
          <p:nvPr/>
        </p:nvSpPr>
        <p:spPr>
          <a:xfrm>
            <a:off x="1981080" y="35053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504240" y="3276720"/>
            <a:ext cx="25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ta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07520" y="4572000"/>
            <a:ext cx="328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lor de trans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es sin fines de lucr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974F-2103-4DC4-8BBF-EB6B49113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1497240" y="1717560"/>
            <a:ext cx="199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orcio 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79640" y="1676520"/>
            <a:ext cx="224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struc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domin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411480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>
            <a:off x="4114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"/>
          <p:cNvSpPr/>
          <p:nvPr/>
        </p:nvSpPr>
        <p:spPr>
          <a:xfrm flipH="1">
            <a:off x="4343040" y="17524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650560" y="41497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21/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8"/>
          <p:cNvSpPr/>
          <p:nvPr/>
        </p:nvSpPr>
        <p:spPr>
          <a:xfrm>
            <a:off x="255600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08400" y="304308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o hay venta, es adjud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255600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475280" y="41911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ctamen 47/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24000" y="40464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ntes Colectiv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4"/>
          <p:cNvSpPr/>
          <p:nvPr/>
        </p:nvSpPr>
        <p:spPr>
          <a:xfrm>
            <a:off x="6732720" y="2455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5391720" y="304308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al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6"/>
          <p:cNvSpPr/>
          <p:nvPr/>
        </p:nvSpPr>
        <p:spPr>
          <a:xfrm>
            <a:off x="6732720" y="35402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684360" y="5348160"/>
            <a:ext cx="50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Fideicomis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E75-5E6F-4DFA-A1E7-82BAE398B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to en participacion</a:t>
            </a:r>
            <a:br>
              <a:rPr sz="2800"/>
            </a:b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(Sociedad Accident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197000" y="2631960"/>
            <a:ext cx="417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colec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ujeto  - socio gesto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 relación asociativa oculta -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C40A-AC33-41DE-8C65-526552983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Normas y antecedentes relev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4360" y="1125360"/>
            <a:ext cx="7848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. (AFIP) Nº 2854/10 (Retenciones IVA)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2408 (Percepciones IVA) y RG N° 2937 (Percep.Import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° 2226 (Certificacados de exclusió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G (AFIP) Nº 689 (Entes colectivos de profesiona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Fallo CSJN “Central Neuquen S.A y otros  c/ Prov. Bs. As. Acción declarativa” 16/04/2002. Fallo CNCAF “Ctral Termica Loma de la Lata” 12/3/20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20/94 Menores de 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18/96 (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4/2001 (Transferencia de participaciones U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ct. (DAT) Nº 178/94 (A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70/2002 Contrato de maquila (art. Nota externa DGI 4/98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J) Nº 41/85 Consorcios de construcción (condominio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Nº 21/95 Construcción en condominio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L) Nº 19/98 Sociedades accident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R.G. (AFIP) 1032 (Condominios. Locación de inmuebl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imes New Roman"/>
              </a:rPr>
              <a:t>Dict. (DAT) 55/05; (DAT) 16/06 y (DAT) 18/06 (Fideicomisos. Transferencias y adjudicaciones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304920"/>
            <a:ext cx="8534160" cy="6324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15:37:37Z</dcterms:created>
  <dc:creator>Ernst &amp; Young</dc:creator>
  <dc:description/>
  <dc:language>en-US</dc:language>
  <cp:lastModifiedBy>Angel Pereira</cp:lastModifiedBy>
  <dcterms:modified xsi:type="dcterms:W3CDTF">2024-04-23T15:29:24Z</dcterms:modified>
  <cp:revision>217</cp:revision>
  <dc:subject/>
  <dc:title>ASOCIACION ARGENTINA DE ESTUDIOS FISCALES</dc:title>
</cp:coreProperties>
</file>